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C39-E8F0-40E7-9903-7BCFDD70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36B-C7B0-44E0-9B5A-6CC4F40E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7E1-EDFD-4EAB-A0ED-BFB438B2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8B9-2BA6-4476-A72A-46F92ABB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5268-497F-4755-800B-9E1867FD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1A60-0A61-421A-BDE4-997CC0E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4B3D-B95E-492B-BFEE-28D753E4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C931-8635-4AC4-8BE2-448FDD2A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1208-5B87-49BC-B5F9-62DF9767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2D0-8A5D-42F4-87C4-9BE4BFF2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BDDA-4DD2-49BC-AE74-5A0309EB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8BD-947E-42EF-A834-D54355F3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1F6A-F9C6-4194-BEA3-029DDFA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4B99-25AD-42C3-9392-2AFC30D5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FA28-4247-4966-AEB5-3258E408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B7F7-1BFA-4B5B-9F60-DDF4A871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9138-B03F-470F-8C76-2285458F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B19-5DCC-445A-89A0-171BB5FF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D8E-841F-4B70-837D-1F57FB03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350-0623-41E8-BC2B-836A6759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5C6-0FA6-4C99-ABC4-3AD07C0D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95C-4CE5-4821-86F2-A6687AE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73B-945C-497D-8C87-F5B4758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232-B959-4AD2-8AAC-62D59DC8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C530-40EC-4094-BB36-300DB6C4DC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1FF2-622E-44EB-8B29-4EE22C4B80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top-10_samyh_strannyh_professij_clause_original"/>
          <p:cNvPicPr/>
          <p:nvPr/>
        </p:nvPicPr>
        <p:blipFill>
          <a:blip r:embed="rId1"/>
          <a:stretch/>
        </p:blipFill>
        <p:spPr>
          <a:xfrm>
            <a:off x="611280" y="3784680"/>
            <a:ext cx="3601800" cy="2695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890280"/>
            <a:ext cx="6585120" cy="3290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Выбор профессии. Сложно ли это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mic Sans MS"/>
              </a:rPr>
              <a:t>Профессия -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ой род занятий, трудовой деятель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фесс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требует от человека подготовки, специальных знаний, умений, навыков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Рисунок 4" descr="professii.jpg"/>
          <p:cNvPicPr/>
          <p:nvPr/>
        </p:nvPicPr>
        <p:blipFill>
          <a:blip r:embed="rId1"/>
          <a:stretch/>
        </p:blipFill>
        <p:spPr>
          <a:xfrm>
            <a:off x="5867280" y="3645000"/>
            <a:ext cx="225756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mic Sans MS"/>
              </a:rPr>
              <a:t>Типы профессий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 – тех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 – челов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 – прир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 – знаковая систе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 – художественный обр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mic Sans MS"/>
              </a:rPr>
              <a:t>Человек - человек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уд людей этих профессий направлен на воспитание и обучение, информирование, бытовое, трудовое и медицинское обслуживание людей (продавец, библиотекарь, журналист, врач, учитель, воспитатель, официант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Рисунок 6" descr="скачанные файлы.jpg"/>
          <p:cNvPicPr/>
          <p:nvPr/>
        </p:nvPicPr>
        <p:blipFill>
          <a:blip r:embed="rId1"/>
          <a:stretch/>
        </p:blipFill>
        <p:spPr>
          <a:xfrm rot="1164000">
            <a:off x="7424280" y="4393800"/>
            <a:ext cx="1408320" cy="2116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lib3.jpg"/>
          <p:cNvPicPr/>
          <p:nvPr/>
        </p:nvPicPr>
        <p:blipFill>
          <a:blip r:embed="rId2"/>
          <a:stretch/>
        </p:blipFill>
        <p:spPr>
          <a:xfrm>
            <a:off x="6875640" y="836640"/>
            <a:ext cx="1769760" cy="18651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тренер.gif"/>
          <p:cNvPicPr/>
          <p:nvPr/>
        </p:nvPicPr>
        <p:blipFill>
          <a:blip r:embed="rId3"/>
          <a:stretch/>
        </p:blipFill>
        <p:spPr>
          <a:xfrm>
            <a:off x="2411280" y="4797360"/>
            <a:ext cx="1368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mic Sans MS"/>
              </a:rPr>
              <a:t>Человек - техника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бота этих людей направлена на технические объекты. Эти люди обслуживают технику, ремонтируют,  обрабатывают металлические и неметаллические изделия и т. д. (столяр, шофер, инженер, водитель, электрик, радиотехник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5" descr="i"/>
          <p:cNvPicPr/>
          <p:nvPr/>
        </p:nvPicPr>
        <p:blipFill>
          <a:blip r:embed="rId1"/>
          <a:stretch/>
        </p:blipFill>
        <p:spPr>
          <a:xfrm>
            <a:off x="324000" y="189000"/>
            <a:ext cx="1079280" cy="17287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images.jpg"/>
          <p:cNvPicPr/>
          <p:nvPr/>
        </p:nvPicPr>
        <p:blipFill>
          <a:blip r:embed="rId2"/>
          <a:stretch/>
        </p:blipFill>
        <p:spPr>
          <a:xfrm>
            <a:off x="6732720" y="4437000"/>
            <a:ext cx="1482480" cy="1944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0527e01adbdd3d3f64bfa619fde1e34b8d0f5cc7-1317809804-.jpg"/>
          <p:cNvPicPr/>
          <p:nvPr/>
        </p:nvPicPr>
        <p:blipFill>
          <a:blip r:embed="rId3"/>
          <a:stretch/>
        </p:blipFill>
        <p:spPr>
          <a:xfrm>
            <a:off x="1835280" y="4941720"/>
            <a:ext cx="1468440" cy="155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8" descr="kak-rebenku-opredelitsya-s-vyborom-professii.jpg"/>
          <p:cNvPicPr/>
          <p:nvPr/>
        </p:nvPicPr>
        <p:blipFill>
          <a:blip r:embed="rId4"/>
          <a:stretch/>
        </p:blipFill>
        <p:spPr>
          <a:xfrm>
            <a:off x="3564000" y="4869000"/>
            <a:ext cx="29242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98508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mic Sans MS"/>
              </a:rPr>
              <a:t>Человек - природа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этому типу относятся профессии, связанные с растениями и животными  (садовник, лесник, агроном, геолог, ветеринар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Рисунок 5" descr="1360405552_zaboti-beterinara.jpg"/>
          <p:cNvPicPr/>
          <p:nvPr/>
        </p:nvPicPr>
        <p:blipFill>
          <a:blip r:embed="rId1"/>
          <a:stretch/>
        </p:blipFill>
        <p:spPr>
          <a:xfrm>
            <a:off x="5651640" y="3860640"/>
            <a:ext cx="2670120" cy="27100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29111438-Иллюстрация-молодой-садовник-на-белом-фоне.jpg"/>
          <p:cNvPicPr/>
          <p:nvPr/>
        </p:nvPicPr>
        <p:blipFill>
          <a:blip r:embed="rId2"/>
          <a:stretch/>
        </p:blipFill>
        <p:spPr>
          <a:xfrm>
            <a:off x="179280" y="404640"/>
            <a:ext cx="1371600" cy="1273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003.jpg"/>
          <p:cNvPicPr/>
          <p:nvPr/>
        </p:nvPicPr>
        <p:blipFill>
          <a:blip r:embed="rId3"/>
          <a:stretch/>
        </p:blipFill>
        <p:spPr>
          <a:xfrm>
            <a:off x="324000" y="4149720"/>
            <a:ext cx="23810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mic Sans MS"/>
              </a:rPr>
              <a:t>Человек – знаковая система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ъединяет людей, объектом труда которых является устная и письменная речь, цифры, химические и физические знаки, символы, ноты, схемы, карты (программист, машинистка, чертежник,  экономист, бухгалтер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Рисунок 5" descr="Programmist2.jpg"/>
          <p:cNvPicPr/>
          <p:nvPr/>
        </p:nvPicPr>
        <p:blipFill>
          <a:blip r:embed="rId1"/>
          <a:stretch/>
        </p:blipFill>
        <p:spPr>
          <a:xfrm>
            <a:off x="5580000" y="4292640"/>
            <a:ext cx="3098880" cy="2320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08_2.jpg"/>
          <p:cNvPicPr/>
          <p:nvPr/>
        </p:nvPicPr>
        <p:blipFill>
          <a:blip r:embed="rId2"/>
          <a:stretch/>
        </p:blipFill>
        <p:spPr>
          <a:xfrm>
            <a:off x="2195640" y="4581360"/>
            <a:ext cx="30906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еловек – художественный обр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ключает занятия, связанные с различными видами искусства – прикладного, изобразительного, музыкального, литературного, театрального (артист, писатель,  фотограф, музыкант, модельер, дизайнер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Рисунок 7" descr="fotograf.jpg"/>
          <p:cNvPicPr/>
          <p:nvPr/>
        </p:nvPicPr>
        <p:blipFill>
          <a:blip r:embed="rId1"/>
          <a:stretch/>
        </p:blipFill>
        <p:spPr>
          <a:xfrm>
            <a:off x="6875640" y="549360"/>
            <a:ext cx="1141200" cy="17636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8" descr="occupations_artist2 (1).gif"/>
          <p:cNvPicPr/>
          <p:nvPr/>
        </p:nvPicPr>
        <p:blipFill>
          <a:blip r:embed="rId2"/>
          <a:stretch/>
        </p:blipFill>
        <p:spPr>
          <a:xfrm>
            <a:off x="5867280" y="3933720"/>
            <a:ext cx="3017880" cy="25815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9" descr="gitarist4.jpg"/>
          <p:cNvPicPr/>
          <p:nvPr/>
        </p:nvPicPr>
        <p:blipFill>
          <a:blip r:embed="rId3"/>
          <a:stretch/>
        </p:blipFill>
        <p:spPr>
          <a:xfrm>
            <a:off x="2843280" y="4221000"/>
            <a:ext cx="213336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152280"/>
            <a:ext cx="687204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 кто т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6" descr="vyborprofessii.jpg"/>
          <p:cNvPicPr/>
          <p:nvPr/>
        </p:nvPicPr>
        <p:blipFill>
          <a:blip r:embed="rId1"/>
          <a:stretch/>
        </p:blipFill>
        <p:spPr>
          <a:xfrm>
            <a:off x="1492200" y="1638360"/>
            <a:ext cx="6159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5:01:30Z</dcterms:created>
  <dc:creator>Анна</dc:creator>
  <dc:description/>
  <dc:language>en-US</dc:language>
  <cp:lastModifiedBy>MrDaniil</cp:lastModifiedBy>
  <dcterms:modified xsi:type="dcterms:W3CDTF">2015-11-17T15:16:29Z</dcterms:modified>
  <cp:revision>18</cp:revision>
  <dc:subject/>
  <dc:title>Выбор профессии. Сложно ли это?</dc:title>
</cp:coreProperties>
</file>